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352000" y="0"/>
            <a:ext cx="842760" cy="1041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6320" y="130320"/>
            <a:ext cx="0" cy="6600600"/>
          </a:xfrm>
          <a:prstGeom prst="line">
            <a:avLst/>
          </a:prstGeom>
          <a:ln w="507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c5e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30320" y="76320"/>
            <a:ext cx="8048520" cy="0"/>
          </a:xfrm>
          <a:prstGeom prst="line">
            <a:avLst/>
          </a:prstGeom>
          <a:ln w="507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c5e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eaec5e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eaec5e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"/>
          <p:cNvSpPr/>
          <p:nvPr/>
        </p:nvSpPr>
        <p:spPr>
          <a:xfrm>
            <a:off x="7651440" y="6188040"/>
            <a:ext cx="199800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9D56-FB3C-4A4B-9821-12716DB152A6}" type="slidenum"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eaec5e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830720" y="649116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sto MT"/>
              </a:rPr>
              <a:t>CCD2A103</a:t>
            </a:r>
            <a:endParaRPr b="0" lang="en-US" sz="1800" spc="-1" strike="noStrike">
              <a:solidFill>
                <a:srgbClr val="eaec5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Conduct Replacement Operations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6240" y="2057400"/>
            <a:ext cx="6845400" cy="456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fcfeb9"/>
            </a:outerShdw>
          </a:effectLst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ction: 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nduct Replacement Operations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onditions: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Given a requirement to conduct replacement operations and access to AR 600-8-111 (Wartime Replacement Operations), FM 12-6 (Personnel Doctrine)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tandards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1.  Defined the wartime replacement system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2. Identified replacement at the individual, CRC and theater levels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Terminal Learning Objective 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tandards: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3.  Conducted replacement operations at the battalion S1, brigade S1, division G1 and the corps AG/PG commander levels.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286000" indent="0"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sto MT"/>
              </a:rPr>
              <a:t>Replacement Flow</a:t>
            </a:r>
            <a:endParaRPr b="1" lang="en-US" sz="4800" spc="-1" strike="noStrike">
              <a:solidFill>
                <a:srgbClr val="000000"/>
              </a:solidFill>
              <a:latin typeface="Calisto M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95480" y="1619280"/>
            <a:ext cx="6953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1T18:00:18Z</dcterms:created>
  <dc:creator>ADG</dc:creator>
  <dc:description/>
  <dc:language>en-US</dc:language>
  <cp:lastModifiedBy>Administrator</cp:lastModifiedBy>
  <dcterms:modified xsi:type="dcterms:W3CDTF">2005-07-08T14:45:34Z</dcterms:modified>
  <cp:revision>13</cp:revision>
  <dc:subject/>
  <dc:title>Process MOS Medical Retention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D\CCD5H103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